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  <p:custShowLst>
    <p:custShow name="Chapter" id="0">
      <p:sldLst>
        <p:sld r:id="rId6"/>
        <p:sld r:id="rId7"/>
        <p:sld r:id="rId8"/>
        <p:sld r:id="rId21"/>
      </p:sldLst>
    </p:custShow>
    <p:custShow name="Images" id="1">
      <p:sldLst>
        <p:sld r:id="rId29"/>
      </p:sldLst>
    </p:custShow>
    <p:custShow name="Section 1" id="2">
      <p:sldLst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6"/>
      </p:sldLst>
    </p:custShow>
    <p:custShow name="Section 2" id="3">
      <p:sldLst>
        <p:sld r:id="rId21"/>
        <p:sld r:id="rId22"/>
        <p:sld r:id="rId23"/>
        <p:sld r:id="rId24"/>
        <p:sld r:id="rId25"/>
        <p:sld r:id="rId26"/>
        <p:sld r:id="rId27"/>
        <p:sld r:id="rId28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6"/>
          <p:cNvSpPr/>
          <p:nvPr/>
        </p:nvSpPr>
        <p:spPr>
          <a:xfrm>
            <a:off x="3429000" y="2127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es in 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066680" y="1981080"/>
            <a:ext cx="678204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5"/>
          <p:cNvSpPr/>
          <p:nvPr/>
        </p:nvSpPr>
        <p:spPr>
          <a:xfrm>
            <a:off x="1143000" y="1219320"/>
            <a:ext cx="708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1066680" y="2590920"/>
            <a:ext cx="4648320" cy="457200"/>
          </a:xfrm>
          <a:custGeom>
            <a:avLst/>
            <a:gdLst>
              <a:gd name="textAreaLeft" fmla="*/ 29520 w 4648320"/>
              <a:gd name="textAreaRight" fmla="*/ 4618800 w 4648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9450" h="21600">
                <a:moveTo>
                  <a:pt x="0" y="0"/>
                </a:moveTo>
                <a:lnTo>
                  <a:pt x="219450" y="0"/>
                </a:lnTo>
                <a:lnTo>
                  <a:pt x="219450" y="21600"/>
                </a:lnTo>
                <a:lnTo>
                  <a:pt x="0" y="21600"/>
                </a:lnTo>
                <a:close/>
              </a:path>
              <a:path fill="lightenLess" w="219450" h="21600">
                <a:moveTo>
                  <a:pt x="0" y="0"/>
                </a:moveTo>
                <a:lnTo>
                  <a:pt x="219450" y="0"/>
                </a:lnTo>
                <a:lnTo>
                  <a:pt x="218050" y="1400"/>
                </a:lnTo>
                <a:lnTo>
                  <a:pt x="1400" y="1400"/>
                </a:lnTo>
                <a:close/>
              </a:path>
              <a:path fill="darken" w="219450" h="21600">
                <a:moveTo>
                  <a:pt x="219450" y="0"/>
                </a:moveTo>
                <a:lnTo>
                  <a:pt x="219450" y="21600"/>
                </a:lnTo>
                <a:lnTo>
                  <a:pt x="218050" y="20200"/>
                </a:lnTo>
                <a:lnTo>
                  <a:pt x="218050" y="1400"/>
                </a:lnTo>
                <a:close/>
              </a:path>
              <a:path fill="darkenLess" w="219450" h="21600">
                <a:moveTo>
                  <a:pt x="219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050" y="20200"/>
                </a:lnTo>
                <a:close/>
              </a:path>
              <a:path fill="lighten" w="219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143000" y="1981080"/>
            <a:ext cx="4267080" cy="457200"/>
          </a:xfrm>
          <a:custGeom>
            <a:avLst/>
            <a:gdLst>
              <a:gd name="textAreaLeft" fmla="*/ 29520 w 4267080"/>
              <a:gd name="textAreaRight" fmla="*/ 4237560 w 4267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1453" h="21600">
                <a:moveTo>
                  <a:pt x="0" y="0"/>
                </a:moveTo>
                <a:lnTo>
                  <a:pt x="201453" y="0"/>
                </a:lnTo>
                <a:lnTo>
                  <a:pt x="201453" y="21600"/>
                </a:lnTo>
                <a:lnTo>
                  <a:pt x="0" y="21600"/>
                </a:lnTo>
                <a:close/>
              </a:path>
              <a:path fill="lightenLess" w="201453" h="21600">
                <a:moveTo>
                  <a:pt x="0" y="0"/>
                </a:moveTo>
                <a:lnTo>
                  <a:pt x="201453" y="0"/>
                </a:lnTo>
                <a:lnTo>
                  <a:pt x="200053" y="1400"/>
                </a:lnTo>
                <a:lnTo>
                  <a:pt x="1400" y="1400"/>
                </a:lnTo>
                <a:close/>
              </a:path>
              <a:path fill="darken" w="201453" h="21600">
                <a:moveTo>
                  <a:pt x="201453" y="0"/>
                </a:moveTo>
                <a:lnTo>
                  <a:pt x="201453" y="21600"/>
                </a:lnTo>
                <a:lnTo>
                  <a:pt x="200053" y="20200"/>
                </a:lnTo>
                <a:lnTo>
                  <a:pt x="200053" y="1400"/>
                </a:lnTo>
                <a:close/>
              </a:path>
              <a:path fill="darkenLess" w="201453" h="21600">
                <a:moveTo>
                  <a:pt x="201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0053" y="20200"/>
                </a:lnTo>
                <a:close/>
              </a:path>
              <a:path fill="lighten" w="201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429000" y="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954360" y="990720"/>
            <a:ext cx="304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2"/>
          <a:stretch/>
        </p:blipFill>
        <p:spPr>
          <a:xfrm>
            <a:off x="2057400" y="1711440"/>
            <a:ext cx="515952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873000" y="2490840"/>
            <a:ext cx="7185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things need nitrogen to build proteins and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 of nitrogen between the environment and living things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troge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047600" y="1766880"/>
            <a:ext cx="34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Nitroge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873000" y="1930320"/>
            <a:ext cx="7185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verting Nitrogen G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out 78% of the Earth’s atmosphere is nitrogen g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ost organisms cannot use nitrogen gas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trogen fix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organisms get the nitrogen they need by eating plants or animals that eat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049760" y="12477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Nitrogen Cycle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873000" y="1930320"/>
            <a:ext cx="7185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ssing It On On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organisms die, decomposers break down the rem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omposition releases a form of nitrogen into the soil that plants can 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types of bacteria in the soil convert nitrogen to a gas, which is returned to the atmosphere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049760" y="124776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Nitrogen Cycle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429000" y="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54000" y="990720"/>
            <a:ext cx="32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itroge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1523880" y="1550880"/>
            <a:ext cx="594072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73000" y="2209680"/>
            <a:ext cx="7185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forms of matter on Earth also pass through cycles. Many of the minerals that living cells need, such as calcium and phosphorous, are cycled through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cycles is connected in many wa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organisms play a part in each of th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046520" y="1386000"/>
            <a:ext cx="23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ny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824040" y="1905120"/>
            <a:ext cx="74134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process of succ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and secondary succ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mature communities devel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1042920" y="112716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growth of a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042920" y="1905120"/>
            <a:ext cx="7185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c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cces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growth of a forest after a forest fire is an example of succ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ion takes place in all communities, not just those affected by disturbances such as forest f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042920" y="112716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imary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1042920" y="1905120"/>
            <a:ext cx="71852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a small community starts to grow in an area where other organisms had not previously l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This proces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imary success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3429000" y="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50760" y="990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49467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9"/>
          <p:cNvSpPr/>
          <p:nvPr/>
        </p:nvSpPr>
        <p:spPr>
          <a:xfrm>
            <a:off x="824040" y="1981080"/>
            <a:ext cx="741348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a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ter cycle, and explain its importance to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a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arbon cycle, and explain its importance to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a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nitrogen cycle, and explain its importance to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4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008000" y="19033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condary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915840" y="2679840"/>
            <a:ext cx="7185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condary successio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3429000" y="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950760" y="990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48657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1008000" y="14335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ture Communities and 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873000" y="2209680"/>
            <a:ext cx="7813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early stages of succession, only a few species grow in an area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 a community matures, it may be dominated by a well-adapted, slow-growing climax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ety of species that are present in an area is referred to a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biodiversity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ving biodiversity helps communitie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logical Suc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008000" y="1433520"/>
            <a:ext cx="767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ture Communities and Biodiversity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873000" y="2743200"/>
            <a:ext cx="7813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e communities tend to have biodiversity. A mature community simply has organisms that are well adapted to live together in the same area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3"/>
          <p:cNvSpPr/>
          <p:nvPr/>
        </p:nvSpPr>
        <p:spPr>
          <a:xfrm>
            <a:off x="685800" y="1219320"/>
            <a:ext cx="7696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429000" y="1364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ndardized Tes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286080" y="34066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4380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873000" y="2133720"/>
            <a:ext cx="718524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 of water between the oceans, atmosphere, land, and living things is known as the water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Water Mo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vapor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proces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dens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045800" y="146520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Water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915840" y="1600200"/>
            <a:ext cx="718524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ipitation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, snow, sleet, and hail are all forms of precip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recipitation falls into the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ecipitation that falls on the land and flows into streams, rivers, and lake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un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roundwa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. Groundwater slowly flows back into the soil, streams, rivers, and oce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045800" y="990720"/>
            <a:ext cx="46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Water Cyc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3429000" y="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952920" y="99072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2666880" y="1665360"/>
            <a:ext cx="4356360" cy="43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15840" y="1600200"/>
            <a:ext cx="71852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ter and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thout water, there would be no life on Ear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All organisms, from bacteria to animals and plants, are composed mostl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helps transport nutrients and waste within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helps regulate temper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water taken in by an organism is eventually returned to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045800" y="990720"/>
            <a:ext cx="46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Water Cyc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873000" y="2286000"/>
            <a:ext cx="71852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ides water, the most common molecules in living things are organic molecules, or molecules that contain carb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known a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rbon cyc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047960" y="1509840"/>
            <a:ext cx="32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arbon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873000" y="1905120"/>
            <a:ext cx="7185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ynthesis and Respi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hotosynthes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, plants us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e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nimals get the carbon and energy they need by eating plants. *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ion uses oxygen and releases carbon dioxide and water back into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047600" y="1249200"/>
            <a:ext cx="49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arbon Cyc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3429000" y="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ycles of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4652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873000" y="1905120"/>
            <a:ext cx="71852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composition and Combu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when fungi and bacteria decompose organic matter, carbon dioxide and water are returned to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bu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*. Combustion of organic matter releases carb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047600" y="1249200"/>
            <a:ext cx="49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arbon Cyc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21:27:51Z</dcterms:created>
  <dc:creator>Information Technology</dc:creator>
  <dc:description/>
  <dc:language>en-US</dc:language>
  <cp:lastModifiedBy>trocksund</cp:lastModifiedBy>
  <cp:lastPrinted>2004-02-20T14:12:55Z</cp:lastPrinted>
  <dcterms:modified xsi:type="dcterms:W3CDTF">2014-04-30T15:19:37Z</dcterms:modified>
  <cp:revision>16</cp:revision>
  <dc:subject/>
  <dc:title>PowerPoint Presentation</dc:title>
</cp:coreProperties>
</file>